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ED2-24DE-4DAE-B75C-4AC0239B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1B3-CA39-4CB7-B305-02805B47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04F-9680-4BA2-9543-C12C5577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C70-1BAE-413E-8186-B331B929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18FA-B291-41C2-9D3D-6BD14423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AE1F-A016-44DC-8994-7FF8EFB2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2951-8F37-49A2-90BC-C55941F8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616C-5A63-45C3-BA57-A03BF859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6377-4267-4399-B179-644012FE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14FB-4F54-428D-AB49-1C2C1AB0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30FE-EAB6-42C1-BB05-D1ED3399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BA9-D79F-45E8-BC3E-F07D7F38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18E1-66EF-4938-A8A6-453FFD82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301F-FECB-416E-BA5D-0285614C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D54E-00FC-4492-8BD4-68C86976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3FDC-4284-45CB-AC90-C874CDA9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77C3-658A-475B-B585-8277C081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03DDD-4DEA-4356-A263-541D3B65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E844-8C07-4DFF-BF62-C3D8939F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365F-6F3B-4B71-B6C5-FD25E03A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F14C-1FCF-4F30-9D7A-2DB6EF9C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49D0-2866-4014-8315-47EF633D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9A7-2A54-4432-BEC0-944F6D6C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1092-80A5-4CD0-8A9D-9B1D3AC8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4ECA-FF6E-4ABE-977B-C8CCBCF0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F9EE-1160-47D1-8DE6-B6D521B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CA1C-0081-4D25-B79C-5F31DDE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7AD0-7E62-488C-8B31-B3CCF758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CA48-FC3B-47AD-AD55-85836FA8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0759-AA89-455C-8964-E4AEB284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002D-B96D-4C40-BE36-68DD7652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1BF3-C2B0-4046-BE8B-1B418AB4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A1BC-7CD3-4C95-8F0B-DE06D4D2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0C9-07A1-4F71-84D5-1EDD8B40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51EE2-493E-42E9-B2C7-E49EE2B4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B1F5-DB38-4E34-A5C8-00AD53E4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FA00B-AFD3-4E22-84A8-2C833F2F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381A-34F0-45A4-875E-15F88C04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7035-ABA4-4A76-9668-EED1D44B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F282-247A-4F6A-B6D9-5B4B586E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AE1A3-CDD5-4974-BD23-C27FCD9E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4388C-58E5-4372-B9D8-D84168FE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9CF6-7ABA-4A0E-9D95-9BD456DB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15E-9E97-4653-9205-A206841D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718-A07F-40A8-A5E3-A497E9E9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858-6CC4-48DE-B7E3-D67ABA9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B90-06E4-47A9-8D24-FDF74293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CDC-36A6-4D73-BC4A-3D3C1EBE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BC5C-A4F1-4ACF-BCCD-248FC2026E1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9AF6-9DB1-4501-BF55-C1DFC11C08F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3DDB-19CA-4668-A1F1-30C4BD2A970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CBC2-52BA-4614-848D-0F0B7D35E94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240" y="4038480"/>
            <a:ext cx="56372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Trebuchet MS"/>
              </a:rPr>
              <a:t>Manufacturing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12760" y="1530360"/>
            <a:ext cx="765648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785960" y="3724200"/>
            <a:ext cx="7169040" cy="3724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457200" y="5335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Kareem is the only one who has an in depth understanding of the troubleshooting the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Accountability and Adaptability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Creativity and Intellectual Curiosity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533520" y="73152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Tw Cen MT"/>
              </a:rPr>
              <a:t>Problem Identification, Formulation and Solution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33520" y="1218960"/>
            <a:ext cx="77724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Tw Cen MT"/>
              </a:rPr>
              <a:t>Self-Direction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-42840" y="2382840"/>
            <a:ext cx="8826480" cy="455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33520" y="1143000"/>
            <a:ext cx="77724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8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Tw Cen MT"/>
              </a:rPr>
              <a:t>Social Responsibility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6:48:18Z</dcterms:created>
  <dc:creator>cay</dc:creator>
  <dc:description/>
  <dc:language>en-US</dc:language>
  <cp:lastModifiedBy>ella</cp:lastModifiedBy>
  <dcterms:modified xsi:type="dcterms:W3CDTF">2012-07-04T13:32:12Z</dcterms:modified>
  <cp:revision>10</cp:revision>
  <dc:subject/>
  <dc:title>Scenario - 2</dc:title>
</cp:coreProperties>
</file>